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344-9329-4DE5-94DD-73796B1F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D5C-D976-4BBF-9619-9C08B4F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43B-F475-4909-8E4E-FB45B96F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AF6-4EC6-46F3-A798-075C6C1A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18A2-CC89-4A37-8106-AECCAEAB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718-6CA1-4007-9506-C6621DC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552-B524-4F1A-A966-FF373C3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19E-2B7B-4D2D-ADED-A4DED06D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0FA2-8F97-450A-A565-DD5B25E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386-107B-4A34-ADF5-1F8742A2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4DF2-3A32-469A-83C2-C11FDEB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F53-7519-4314-A849-FCF61BD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7FA7-A435-4598-A0ED-1A36FD6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138-6EC0-4FD5-B4BF-11960C4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EFE-E6DB-49C3-8E51-6CDEA733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52F-7966-4EE2-8790-DC397701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481-CA6C-4B87-9688-EFF1F1C8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B0F-2E90-48E9-A432-E301AD4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7AF-D39F-48B6-A13D-56C1936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3BD-25D6-48BF-A65F-2E991EA3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393-79AA-42E8-8313-1FA9838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779-A7C7-4C60-A157-A3F07FD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291-7663-4872-A70B-4743A64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384-41D7-4D9A-9202-E155285E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36B-966E-4B26-A744-0AA8712584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A2A-6E9A-4B5B-952A-2ACBBC4F076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11200" y="1844640"/>
            <a:ext cx="5932440" cy="1363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ВТОРОЙ ТУР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5280" y="3141720"/>
            <a:ext cx="8137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«ГОНКА ЗА ЛИДЕРАМИ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716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4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Единицы измерения ДАВЛЕНИЯ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а, атм., мм.рт.ст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азовите закон: для получения какого-либо вещества необходимо, чтобы соотношение масс входящих элементов было постоянным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Дальтон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еличина равная отношению массы молекулы вещества к 1/12 массы молекулы углерода называется 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Относительной атомной массо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Единицы измерения температуры 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ельвины, градусы Цельс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3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зовите закон: отношение объема тела к его температуре при неизменном давление есть величина постоянн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Гей-Люсса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оличество атомов (молекул) в одном моле вещества показывает 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личность физических свойств по разным направлениям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анизотропие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Единицы измерения молярной массы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г/моль, кг/мол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4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Назовите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он: в равных объемах газа содержится одинаковое количество молеку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Авогадр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р находящийся в термодинамическом равновесии со своей жидкостью называется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Насыщенным пар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Единицы измерения массовой до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%, доли единиц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число Авогадр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5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зовите закон: отношение давления тела к его температуре при неизменном объеме есть величина постоянн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Шарл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бъем одного моля газа при нормальных условиях называется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Молярным объем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Единицы измерения количества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Мол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6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зовите закон: независимо от способа получения, вещества имеют постоянный соста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Пруст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ТОРОЙ ТУР ЗАКОНЧЕ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48656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Жюри подводит итоги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76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94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Единицы измерения скорости химической реакци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моль/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л•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ПРОС 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зовите закон: произведение давления газа на его объем при неизменной температуре – величина постоянная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9912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кон Бойля-Мариотт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  <p:sndAc>
      <p:stSnd>
        <p:snd r:embed="rId1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гроку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Масса одного моля вещества – это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молярная масс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  <p:sndAc>
      <p:stSnd>
        <p:snd r:embed="rId1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7:38:04Z</dcterms:created>
  <dc:creator>Roman</dc:creator>
  <dc:description/>
  <dc:language>en-US</dc:language>
  <cp:lastModifiedBy>Olesya</cp:lastModifiedBy>
  <dcterms:modified xsi:type="dcterms:W3CDTF">2007-11-10T06:37:31Z</dcterms:modified>
  <cp:revision>8</cp:revision>
  <dc:subject/>
  <dc:title>ВТОРОЙ ТУР</dc:title>
</cp:coreProperties>
</file>